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3FDF-DE1B-4603-8B1B-3AA74B23C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2730-E19F-4244-BD91-0BFDDB1B6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2E99-DE61-40D4-A71F-0D2B4263D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8B3C-304F-4104-BF30-B344D5EC4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2F989-5D02-462F-981A-352C26D9A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0FFF0-174D-4208-B078-1DB4A5252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AD227-85CC-4B04-8F6C-F8633F8D1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3534E-76C2-4E6D-8E9F-1D064A2DC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6BC14-6E75-407D-BAB4-6D006155B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E8FE5-7631-438C-961F-218D64B59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66AC0-74FC-4C67-8348-F46DD06B6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A05E-699E-4325-8210-FD88BCC35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68734-6970-4D63-85B0-52005F0C8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F5211-BACB-4276-B229-B853A5EE5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6E259-CFE1-4B5B-A913-8CF67D81C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D17EE-567D-4A51-96D5-6E1F9BAE1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F3497-5359-4C73-B937-2D6E673B6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8624-E411-4BD6-9519-F3232D32B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4D5E-5E91-4B75-BF69-E02EAD8E6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0D6D-14F4-4F6A-AA10-BEB55A9B7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7C76-9247-4A9B-BD7C-945FC1CB3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1790-AE84-41A8-AC91-B381B9A2C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3F51-A035-4055-B9A7-E3DE3191A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4B19-FEC2-44BA-AE2F-7A9C6A56C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74319-FC41-4F0C-8B28-DC9D48E00668}" type="datetime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1DAC7-16C6-4DB3-816B-D8C8D6539A8B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CDC82-5542-44A5-A35C-DF9D05D2BDD9}" type="datetime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AFCF1-0370-4A21-A035-8E6EA12AF02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image" Target="../media/image11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Comic Sans MS"/>
              </a:rPr>
              <a:t>A dpmjet use report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685800" y="2666880"/>
            <a:ext cx="4108320" cy="2381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143000" y="3124080"/>
            <a:ext cx="2362320" cy="6098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4316400" y="4011480"/>
            <a:ext cx="3220920" cy="214164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5486400" y="4267080"/>
            <a:ext cx="168912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Black:from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Red:from suppress fa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Q2 suppression factor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609480" y="1143000"/>
            <a:ext cx="4314960" cy="14382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5105520" y="2209680"/>
            <a:ext cx="3276360" cy="135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ic-tf-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312A-F7BE-4F33-9CD8-42D63AFAA07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1813F5-E84C-4809-ACF7-9C60DC0A8D7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286000" y="1305000"/>
            <a:ext cx="6267600" cy="14191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2286000" y="2905200"/>
            <a:ext cx="5524560" cy="12859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533520" y="4743360"/>
            <a:ext cx="3933720" cy="12765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457200" y="2286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rix element for direct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15336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CD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29955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343400" y="30492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2 involved in hard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33520" y="7621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pyth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09480" y="41911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dpmj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ic-tf-mee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CA90-1BF1-42D1-9703-65884652D1F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AA7DEB-F323-44EC-A19F-36FCA1EA75F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935600" y="3797280"/>
            <a:ext cx="3903480" cy="26798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609480" y="3809880"/>
            <a:ext cx="3903840" cy="268632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4876920" y="689040"/>
            <a:ext cx="3949560" cy="26636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4"/>
          <a:stretch/>
        </p:blipFill>
        <p:spPr>
          <a:xfrm>
            <a:off x="641520" y="685800"/>
            <a:ext cx="3930480" cy="268128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2057400" y="138240"/>
            <a:ext cx="17524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Pyth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ith photon flu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876920" y="619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Pyth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ithout photon flu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057400" y="3262320"/>
            <a:ext cx="17524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Dpm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ith photon flu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2880" y="3110040"/>
            <a:ext cx="1905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Dpm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ithout photon flu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09880" y="1206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GF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ic-tf-mee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AC36-F030-4A44-9B14-2AE3904A9138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44A83A-9FE4-4782-8FBE-EE312090F26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Conclusion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pplic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Arial"/>
              </a:rPr>
              <a:t>For very low Q2, LO DIS process vanishes, the Q2 evolution factor for the hard process might not be so significant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rosp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Arial"/>
              </a:rPr>
              <a:t>Include those Q2 part for the direct proces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Arial"/>
              </a:rPr>
              <a:t>Modify this Q2 suppression factor in dpmje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Arial"/>
              </a:rPr>
              <a:t>Link Pythia with nuclear PDF and combine it with the nuclear fragmentation from dpmje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ic-tf-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684D-5932-49EF-BBA2-8458025AEA6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198B90-5036-41F5-A456-2B5D70DACF1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Problems found in Dpmj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Comic Sans MS"/>
              </a:rPr>
              <a:t>Photon Flux facto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Comic Sans MS"/>
              </a:rPr>
              <a:t>Fixed by using some new way of flux gener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Comic Sans MS"/>
              </a:rPr>
              <a:t>Subproces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Comic Sans MS"/>
              </a:rPr>
              <a:t>LO DIS missing in Dpmje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Comic Sans MS"/>
              </a:rPr>
              <a:t>Q2 suppress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Comic Sans MS"/>
              </a:rPr>
              <a:t>No Q2 dependence for the direct proces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Applic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Prosp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ic-tf-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9437-731A-40E9-BC2A-A3CA8014481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093DA3-0CCE-4079-B1A9-E7C498095F9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omic Sans MS"/>
              </a:rPr>
              <a:t>Photon flux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3971880" cy="6001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3048120"/>
            <a:ext cx="4343400" cy="5428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828800" y="1752480"/>
            <a:ext cx="304920" cy="457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05120" y="22860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4724280" y="228600"/>
            <a:ext cx="4114800" cy="8906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029200" y="161460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ate 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970520" y="2376360"/>
            <a:ext cx="158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t by y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970520" y="3048120"/>
            <a:ext cx="158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ate Q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741920" y="3733920"/>
            <a:ext cx="187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t by Q2 factor under certain 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671800" y="1309680"/>
            <a:ext cx="57636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638680" y="191916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638680" y="28335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56320" y="3352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161460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ate y Q2 o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799320" y="2757600"/>
            <a:ext cx="1582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ive a weight according to y and Q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467480" y="237636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638680" y="458640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912080" y="3622680"/>
            <a:ext cx="1231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Read cross section from a table generated by phoj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467480" y="358128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656320" y="4876920"/>
            <a:ext cx="2303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105520" y="5272200"/>
            <a:ext cx="1295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t by cross s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515280" y="5346720"/>
            <a:ext cx="1942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 weight with cross section and cut this ev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78520" y="1309680"/>
            <a:ext cx="36036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75280" y="115740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513560" y="1157400"/>
            <a:ext cx="7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648320" y="5181480"/>
            <a:ext cx="4114800" cy="10670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4038480" y="60199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743200" y="56386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 fixed q2 and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495680" y="1143000"/>
            <a:ext cx="4572000" cy="54864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82440" y="1677960"/>
            <a:ext cx="4337280" cy="251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ic-tf-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AE0F-8AB2-4165-91F4-221A4A3DB5F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A764D0-DEFA-44B0-B964-981F8707475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389560" y="146160"/>
            <a:ext cx="3602160" cy="24447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610080" cy="24782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0" y="4343400"/>
            <a:ext cx="3629160" cy="24321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5524560" y="4410000"/>
            <a:ext cx="3619440" cy="2448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2652840" y="2133720"/>
            <a:ext cx="3290760" cy="2232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 flipV="1">
            <a:off x="1447920" y="2666880"/>
            <a:ext cx="15228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1905120" y="2437920"/>
            <a:ext cx="9144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5943600" y="23619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6552720" y="2438280"/>
            <a:ext cx="30492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397656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photon flux (ol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72200" y="40384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photon flux (ne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352680" y="25146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Sig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1752480"/>
            <a:ext cx="2057400" cy="7621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04920" y="5867280"/>
            <a:ext cx="2361960" cy="8384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5335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toge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ic-tf-mee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ACC3-3AA5-458C-A251-EB9FBAA70B2C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723752-D226-4D02-B895-BDFDFB15350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800600" y="977760"/>
            <a:ext cx="3957480" cy="26481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813200" y="4025880"/>
            <a:ext cx="3949920" cy="26798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304920" y="963720"/>
            <a:ext cx="3967200" cy="26812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304920" y="4025880"/>
            <a:ext cx="3930480" cy="26668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057400" y="595440"/>
            <a:ext cx="17524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Pyth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ith photon flu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553080" y="595440"/>
            <a:ext cx="1905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Pyth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ithout photon flu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057400" y="3719520"/>
            <a:ext cx="17524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Dpm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ith photon flu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629400" y="3643200"/>
            <a:ext cx="1905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Dpm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ithout photon flu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ic-tf-mee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95D6-A762-4530-818F-D7C66A4988F5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A9204B-1D16-4625-9884-7FB80864439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Comic Sans MS"/>
              </a:rPr>
              <a:t>Subprocess</a:t>
            </a:r>
            <a:endParaRPr b="0" lang="en-US" sz="3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52280" y="1905120"/>
            <a:ext cx="4953240" cy="32004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5410080" y="533520"/>
            <a:ext cx="3038760" cy="56102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819520" y="2362320"/>
            <a:ext cx="2971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590920" y="1371600"/>
            <a:ext cx="281916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4191120" y="1371240"/>
            <a:ext cx="121896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0" y="48769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1676520"/>
            <a:ext cx="243828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486400" y="4952880"/>
            <a:ext cx="2819520" cy="228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819520" y="2286000"/>
            <a:ext cx="259056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14400" y="1600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pmjet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ic-tf-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BE28-F2B0-49A6-8BFE-C91337E9A66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E1F3FF-8AE0-4C69-8D2A-AD778933E1A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981080" y="1066680"/>
            <a:ext cx="6515280" cy="44006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6400800" y="57913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Arial"/>
              </a:rPr>
              <a:t>LODI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5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880" y="304920"/>
            <a:ext cx="2438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YTHIA sub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&lt;Q2&lt;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0.01&lt;y&lt;0.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248520" y="4952880"/>
            <a:ext cx="9144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705720" y="0"/>
            <a:ext cx="2438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ir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9.8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GF:5.42%+1.2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CDC:2.17%+1.0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7391520" y="1143000"/>
            <a:ext cx="76176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657600" y="0"/>
            <a:ext cx="2895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of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1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astic:5.6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 Diff:3.25%+2.6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u Diff:2.0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ft NDiff:6.4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4952520" y="1447560"/>
            <a:ext cx="83844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14600" y="2819520"/>
            <a:ext cx="2971800" cy="2590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1828800" y="4038480"/>
            <a:ext cx="8380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8600" y="36720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solv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1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562720"/>
            <a:ext cx="41911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Hard=Direct+Resolved+</a:t>
            </a:r>
            <a:r>
              <a:rPr b="0" lang="zh-CN" sz="1800" spc="-1" strike="noStrike">
                <a:solidFill>
                  <a:srgbClr val="ff3399"/>
                </a:solidFill>
                <a:latin typeface="Arial"/>
              </a:rPr>
              <a:t>LODIS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=8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Soft=1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ic-tf-mee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C546-E9FD-419B-9924-665CDB5376E9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33907F-658A-49D7-A4A0-46DCBF226FD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133720" y="838080"/>
            <a:ext cx="6476760" cy="43149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6705720" y="2286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ir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315200" y="685800"/>
            <a:ext cx="30492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562720" y="8524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u Diff:2.9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6552720" y="1218960"/>
            <a:ext cx="2286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91320" y="54864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 Diff: 7.1%+0.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4724280"/>
            <a:ext cx="3812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800600" y="60199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ral Diff:0.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181480" y="4800600"/>
            <a:ext cx="2286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00400" y="54864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astic:1.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4266720" y="480060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172200" y="4648320"/>
            <a:ext cx="763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28600" y="1600200"/>
            <a:ext cx="2286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NonDiff: 85.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Har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resolved):2.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oft:8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 flipV="1">
            <a:off x="2361960" y="1904760"/>
            <a:ext cx="106668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80880" y="76320"/>
            <a:ext cx="2438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PMJET sub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&lt;Q2&lt;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0.01&lt;y&lt;0.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4724280"/>
            <a:ext cx="32004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Summar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Hard=Resolved+Direct=4.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Some diffractive events are also hard diffractive ev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0" y="2895480"/>
            <a:ext cx="2587680" cy="1791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 flipH="1">
            <a:off x="2361960" y="3962520"/>
            <a:ext cx="9903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380880" y="28195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1219320" y="2361960"/>
            <a:ext cx="304560" cy="1143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33520" y="3505320"/>
            <a:ext cx="1752480" cy="9144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ic-tf-mee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1C13-5918-460A-8ABB-5B2F2E4BC7FE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18098C-531D-4DC2-B4B3-C8CDE7A9DAD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304920" y="2895480"/>
            <a:ext cx="4222800" cy="29052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4724280" y="2895480"/>
            <a:ext cx="4222800" cy="29084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752480" y="4428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A comparison of final state particles( no photons) from dpmjet and pythia for some certain sub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181480" y="167652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events other than hard generate a lot of final state parti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858000" y="2437920"/>
            <a:ext cx="83808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" y="609480"/>
            <a:ext cx="3581280" cy="25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Summary of subproces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dpmjet      pyth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Direct        2%          9.86%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Resolved   2.4%       1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Diff          10%           8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Soft NonDiff   83%      6.43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LODIS        Not found     %5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200400" y="5334120"/>
            <a:ext cx="6858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4343400" y="5486400"/>
            <a:ext cx="37339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0400" y="601992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ore final state particles are generated from dpmj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ic-tf-mee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40FD-E513-4D2D-86D2-EC4271903C42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A48607-BB7C-49A8-9420-622E5428CD3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1T20:03:38Z</dcterms:created>
  <dc:creator>liang</dc:creator>
  <dc:description/>
  <dc:language>en-US</dc:language>
  <cp:lastModifiedBy>liang</cp:lastModifiedBy>
  <dcterms:modified xsi:type="dcterms:W3CDTF">2012-01-12T17:49:27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